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C24-6C52-4F56-AEE8-59A6D9BF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A42-5723-46DC-8FC2-580CBCE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6D9-6A82-4D34-A513-640E4743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66C-E47B-43DC-A131-FA6B8AAB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A9D-B14F-44E0-B0FC-A660F91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879-4488-4C36-A85D-B340302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3E4-768B-4276-986D-C9E1C057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4FD-1099-469D-8E04-8B1E97C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F97-8251-4FC6-880B-1DCC82A8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DF8-A415-4985-BE5F-491F786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0D0-CC0F-4EB5-8B87-5AEB21C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64E-4A33-4737-9601-C6E9001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9CD-DA46-4C23-9110-3994CE70E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aluation and Development of Surface Layer and Boundary Layer Parameterization schemes in H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990360"/>
            <a:ext cx="88394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n Zhang, Jian-Wen Bao, Suandararaman Gopalakrishnan, Sylvie Lorsolo, David Nolan, Robert Rogers, Kevin Yeh, and Xuejin Zha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un cases such as Hurricane Isabel (2003) using HRS  and compare the simulated boundary layer structure to the observations from the CBLAST experi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and test the surface layer parameterization scheme in terms of surface exchange coefficients according to recent observational stud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sensitivity test of the hurricane intensity and structure change to the variation of different surface flux parameterization metho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a simple boundary layer parameterization scheme based on the data collected by HRD, such as CBLAST turbulence data, dropsonde data, Radar TKE data, et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50:48Z</dcterms:created>
  <dc:creator> </dc:creator>
  <dc:description/>
  <dc:language>en-US</dc:language>
  <cp:lastModifiedBy> gopal</cp:lastModifiedBy>
  <dcterms:modified xsi:type="dcterms:W3CDTF">2009-02-19T03:36:09Z</dcterms:modified>
  <cp:revision>9</cp:revision>
  <dc:subject/>
  <dc:title>Evaluation and Improvement of the Boundary Layer Parameterization schemes in HRS </dc:title>
</cp:coreProperties>
</file>